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531120"/>
            <a:ext cx="9144000" cy="326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3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6240" indent="-22284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1816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93880" y="657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1442880"/>
            <a:ext cx="63990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9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81480" y="5246640"/>
            <a:ext cx="3648240" cy="125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3.org/2001/sw/hcls/" TargetMode="External"/><Relationship Id="rId2" Type="http://schemas.openxmlformats.org/officeDocument/2006/relationships/hyperlink" Target="http://esw.w3.org/topic/HCLSI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eam-hcls-chairs@w3.org" TargetMode="External"/><Relationship Id="rId2" Type="http://schemas.openxmlformats.org/officeDocument/2006/relationships/hyperlink" Target="http://esw.w3.org/topic/HCLSIG/Meetings/2009-04-30_F2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520" y="26874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3C Semantic Web for Health Care and Life Sciences Interest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20720"/>
            <a:ext cx="5943600" cy="4856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the HCLS 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Prud’hommeaux, W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nical Observations Interoperabilit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pul Kashyap, Cigna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ology Tas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Madden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Open Drug Data Tas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, Eli Li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Discours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Clark, 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RDF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, Yal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26874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the HCLS 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ground of the HCLS 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 chartered in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s: Eric Neumann and Tonya Hongserm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hartered in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s: Scott Marshall and Susie Step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ontact: Eric Prud’homme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6 formal participants, and mailing list of &gt;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www.w3.org/2001/sw/hc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esw.w3.org/topic/HCL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sion of HCLS 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20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ssion of HCLS is to develop, advocate for, and support the use of Semantic Web technologi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al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omains stand to gain tremendous benefit by adoption of Semantic Web technologies, as they depend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of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ny domains and processes for efficient 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p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use ca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id individuals in understanding the business and technical benefits of using Semantic Web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guideli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ccelerate the adoption of the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lection of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proof-of-concept demonst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-leve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seminate inform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ut the group’s work at government, industry, and academic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Task Fo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20720"/>
            <a:ext cx="8534520" cy="4856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RDF – integrated neuroscience knowled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 (Yale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nical Observations Interoperability – patient recruitment in t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pul Kashyap (Cigna Healthca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Open Drug Data – aggregation of Web-based drug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Bizer (Free University Berl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rma Ontology – high level patient-centric ont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 Denney (Eli Lill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Discourse – building communities through net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Clark (Harvard Univers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ology – Semantic Web representation of existing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Madden (Duke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mplish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20360"/>
            <a:ext cx="8458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7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S KB hosted at 2 institutes, with content from x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Trials.gov, DailyMed, DrugBank, &amp; Diseasome added to Linked Data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WAN and SIOC ontologies for Scientific Dis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 demonstrator of querying across heterogeneous EH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Presentations and Worksho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-IT World, WWW, ISMB, ISWC, AMIA, Society for Neuroscience, C-SHAL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C Bioinformatics: Advanced Translational Research with the Semantic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A Spring Symposium: Clinical Observations Interoperability: A Semantic Web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3C Note: A Prototype Knowledge Base for the Life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3C Note: Experiences with the Conversion of SenseLab Databases to RDF/OW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tting Inv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036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ts to getting involved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ccess to use cases and best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standard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 exploration of new technology through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with others working on the 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 to any of us after the ses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chairs and team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team-hcls-chairs@w3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225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 the F2F on April 30/M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206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esw.w3.org/topic/HCLSIG/Meetings/2009-04-30_F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52:50Z</dcterms:created>
  <dc:creator>kblanc</dc:creator>
  <dc:description/>
  <dc:language>en-US</dc:language>
  <cp:lastModifiedBy>c082000</cp:lastModifiedBy>
  <cp:lastPrinted>2000-03-06T21:03:57Z</cp:lastPrinted>
  <dcterms:modified xsi:type="dcterms:W3CDTF">2009-02-25T19:52:14Z</dcterms:modified>
  <cp:revision>609</cp:revision>
  <dc:subject/>
  <dc:title>Open Innov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</vt:lpwstr>
  </property>
  <property fmtid="{D5CDD505-2E9C-101B-9397-08002B2CF9AE}" pid="3" name="RecordSeries">
    <vt:lpwstr>ADM100</vt:lpwstr>
  </property>
  <property fmtid="{D5CDD505-2E9C-101B-9397-08002B2CF9AE}" pid="4" name="SensitivityClassification">
    <vt:lpwstr>GREEN</vt:lpwstr>
  </property>
</Properties>
</file>